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CEA14-1F29-46F1-9CA6-26CA0732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2833A-A8D7-474A-948A-8FDDAB93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878DA-E1F1-4891-A094-192D4ECF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BFC7A-AB41-4064-A6CF-838075DF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7B777-0062-4C17-BF72-7269F72E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CB93E-8785-4EF1-8DFF-AC6DAD3E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7B2B4-335D-43CC-A43B-F0CC367A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8C9D3-5E7E-4B7B-B9DE-7FE09EE6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73112-3797-409A-BD27-76C05478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DFDB6-CB2E-4DD7-99F7-8E0D0E47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FE5CF-07E9-4821-ACFF-2E3CAB49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5CFFF-9D96-421F-BDBA-3C26941D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04EB7-EA87-4FEA-8E67-A3C26930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1531A-61D4-4DC7-B2AD-85F17D3A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D8236-D06A-4E6C-848A-CBE46D99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AE36A-5FAE-4A6F-BC6A-CED08CD1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047B4-053F-494A-B405-19CF03EB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C1098-0FDB-414B-83B9-F0E6CA5B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D8E80-E80C-4314-A1DC-6D47E666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C7E5F-9897-44DA-A68D-2A002981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15FE5-4F99-4BEC-B96D-EFFA33BA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4E4CC-2F26-4D21-9FF0-F821CB07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FF56A-AE96-4F54-8D85-7874B4C3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61ABC-0C7B-4A22-84FC-695901B5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87732-CF3F-40E9-A0D7-C97E9190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2B0F4-1A58-404C-89E3-B15E6D47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5B3F2-39B7-4641-A7F0-A606BEA4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D1399-23E3-440B-B74C-0A1537FA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70DD6-00AB-4149-BA68-B832F713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A8C9C-8303-4A8A-B29D-CE8ED786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823-77B3-4225-9F5B-68BB94FB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73D86-B1F8-43BD-9B20-165EEF99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DD48D-5CDA-433A-9E42-FF535EA0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FF4BE-E98D-415A-B11B-A5DEEDA3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AA46E-8A7F-4A3F-804E-90F70B30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CEEFD-4D7D-4BF4-93D7-B20E48D7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26F76-1DC8-410F-895B-62FAB809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5E11C-0ECE-4317-822D-26BFF6E6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278F3-518A-4EDA-9C45-32EE2E43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E3CE8-638C-4E7C-BD40-16B5454F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E6327-22DA-44EB-AE42-1D40AC4A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560-D622-4AAD-8C34-BBC4186E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FEBFC-4CC4-4F5C-9E6A-94393D85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D1CC1-975C-4893-ABE8-984B3E7D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3A23F-54B1-4CC9-8057-B37C811E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0ECC4-F583-4BA7-B64B-F871DAC8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D002C-C6BE-4C1E-A637-1494CDE5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5F4C6-32B9-4E0D-A947-AC797564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8D820-D5F3-4164-91FD-FC2F6F1A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6D3E5-555F-481A-9603-664B41B1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8ADFD-B95C-4AF5-9863-882A1B03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1DEF2-0B33-461C-B978-D3652DF1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A97-2BA2-4523-8D07-B7514535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50680-C78A-4B6A-8ACE-07A3A09E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55AB4-4EFC-4C74-9DC4-28ACE661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9F1C1-5271-4005-93A7-AE0886D9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CEFB5-C173-49B1-95CD-DECFC196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CED96-EB2C-4EEF-A641-C65C749D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11E4D-F10A-40FD-9015-F5C9B6CE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6108C-1118-49B0-A810-3BE592CD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7234E-A8AA-4D73-8FB8-81AFB538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22DA1-8491-4139-8A10-DB013FE9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F1943-EC9D-4FDC-AC1A-BB0321BD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D93-FFDB-4A26-AFC3-CAC9CA2D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8E19C-0A49-4FCE-9E39-9779D46D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766C1-24E0-4CEE-987A-B6EEFF32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7A688-A528-4EEB-90C1-BF15908D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5D33A-EE4B-42CA-A446-D6DDB72A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D8FF7-D90E-4F4C-B85E-8DDE9FEE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C5ECE-709F-4EBE-B77C-9E39F99E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854E6-DD9D-479E-B53E-A8399DE7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7F301-F494-4B9A-8C80-55741D60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148F94-556A-4BF7-8156-3A49FF69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F7FBC-0BD7-4362-8765-58886AFF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867-C39A-43C3-9133-6C616D20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254A1C-A318-4B85-9788-6EE20F90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56499-65E0-477C-98E3-3DB1FA43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83602-5B3C-42EE-B29A-FA2EB98F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E2DBA9-CBDA-48E6-90B4-14B70104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EBFC2F-C7E7-4CCA-8FFF-0948AA25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85F6E-CBA6-41F3-B37D-63D0C531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2E893-4833-4D7F-9B86-57064AA2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FD9925-FA96-40C7-9A55-B1C8566E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781954-0842-425C-8346-7CD62EF9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F427B-0779-4AC7-A456-E07ABC1D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FA1-9E19-419A-8318-370E6B6E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0D878-EDA3-41BA-8511-72D9E231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798C8-9CB7-4868-8DFC-E4CCAF3B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81A38-5C7A-432E-BAE5-A705DB3E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4F543B-855E-43D1-9A3D-8FCDC52F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4E92D-C09F-4E5A-811A-5C18F55A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027E50-C64E-4C0C-AC95-5CE16515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0C943-D751-40C8-AC9C-09287BF0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C2960-FD6A-4F9E-BF2A-EBB30024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14B66B-0FC1-487E-BF28-D2887D4A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4F39E6-C71E-496B-BA22-91824BF9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1BC-907E-4262-8E5B-8113D8BC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88FBF-CB40-4378-B417-6938210A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7EE3EC-D0FA-4922-BEEF-6F83CCFA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C04523-90D6-49F6-A16E-BC559E60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007F7-1976-4642-8F16-F36DF573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4125AE-F228-47A7-B448-72877F18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6912EF-A2C3-4F7A-80C6-B9069024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BF23E1-7D5C-4B43-9682-46982DD8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210619-E9A8-4A2B-923C-CAB189D7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64F28D-56BB-4F88-9BD0-C7BA5691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5C6412-0736-420D-93DD-7A041132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280-CED7-4415-9C2F-E46FA65E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45C98-CBF6-4EC3-B7D3-F9CD7D14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547FB4-FEEB-4EB9-A4AB-E0290603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32A436-530C-4E6D-A6D4-EC09457A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DDCC2-B387-4FAC-BC5F-1D00CD14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4103F-52D6-4660-BCB5-AE5D9DF3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D9ED7C-7AD2-49B9-AFEE-E4FF75FC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565A16-1D19-4D51-97A1-99C91817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7BD775-10EF-418B-87CC-D1634CEB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AC0CE2-D483-42CC-8D68-E561657E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029B0-D277-4C2C-A4F3-B4307487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166-2A66-42D3-86C3-EA701188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6380DE-5907-4F8F-A191-CB11E64C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B79346-D61B-4335-AB13-CF0FBE42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2AAA43-EB47-4583-B279-B1865503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7D036F-C1EB-4026-9262-4ADFB785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B3669B-06E1-47EF-8814-057BA3AD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4C8B82-86DC-4233-B19F-B8654F79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628BB-421A-47F6-A532-AA215AF5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BFA7CA-85DE-45CA-A8F1-D93840EB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ED39D-4219-4DF2-91EB-936F13A2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7B27CD-7FF3-40D3-B0AB-CC4104F7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295-C6BD-4654-9FDA-B1F09EA8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C47C34-EF3E-4200-AE9C-5D6D7E92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033FBF-1F40-474B-9B90-5225FD83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8A111E-9F3D-4730-BD55-D7780638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26BF33-F2FD-4580-89BB-12CD238B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515860-47DA-47A5-854C-BB0EEECC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75F84D-2735-49AB-BBB9-BE36C6B2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C74ECD-A199-4690-81A1-CDF4D803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CF2B57-4C28-4767-A8E2-0BE31FAE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813CA-1892-4B64-81E5-AC1357D7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CB8B02-3B7F-47A5-9A01-462E6FE8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B5C-E5C6-4813-91A5-232D8F82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823641-F3A7-4EE4-8237-E47F5287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DC3895-BCDD-450A-8F35-DD72C506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D54CA9-FCF6-45C8-8978-6F4558DF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7D12BB-D17B-4A60-A05D-8ACCEA1F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B0D476-3D0A-4A52-AD44-B8CC8877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C44E8A-00A4-4C61-8400-07132C22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C0E1EB-BF99-433F-A171-4F092DDA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CB79CA-F188-4F08-9A07-F479B91D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8E56CA-FA6F-4D3A-8161-463B4989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E166C5-600A-4FD6-9002-ED78679C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CB6-4ECE-4323-8A05-279D2049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FA84CE-433C-4773-A054-23169FD2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7134A2-2E93-43C6-AD6E-EA997E40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A2CA58-F10E-4094-8A4C-C8B744D8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5420F0-15E0-4EB9-9391-03FCC600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176CEF-0A8E-4214-B7ED-E1921B25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8A7159-07C1-49AF-9996-52A896B1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9F5243-83A6-4550-83BC-B1809FB6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F5A2C2-35EB-4B73-8663-AFF29D4C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54307E-730B-45FB-9F1F-43830098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DFE73A-714A-4DF7-BAA2-B630E002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29A0-371A-45E5-94A4-E6C536F3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1C91F0-3DE9-4987-8C8B-22D22B5D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9D8120-C559-45B5-A103-AEADC142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FC690D-8E4B-4756-8070-7B0FDA1B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652AD9-E4AF-47BA-A1B5-120F6A7D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83E34B-4EA0-4820-A03D-3E8244F4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D356FA-A4F5-4BBB-99E1-A3592E52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C6C0CC-0D2C-4C75-A1E5-3D6E9515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4768F6-7469-4102-AD0C-733F3A10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C9569F-98AE-4379-B259-3C65889D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43BFD4-B5E3-4F2E-901C-A3A89F5D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95A5-3EA3-4ACD-B26B-B23AD300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F9D488-B088-4FFA-91C5-A5259033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A69A0A-4338-4735-A2DA-5066BA64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9F58B9-BBDA-4DF7-BDB0-33AD148E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8F50F7-57B6-472C-86E8-2EE3AC33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81D0AD-DC52-431C-84C4-5C50A23D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DFF97C-6601-4415-8885-AF18F9C6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34244E-9BCD-41E5-A59E-6C31E0E4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90551E-CF1A-46A1-8274-3FF59B13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1DECB3-7403-4A16-BEBB-7B37128F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2741DF-828F-43C5-949E-152CAB23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DAA1-4FF4-4B62-A2ED-6B1BF749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46D672-9A48-4032-94C2-42D32CD5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D2BA1D-F3DD-4FAA-9D86-F32254BB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11EF6B-A154-4D4E-9EA3-479D0E44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CC272D-8C61-43B5-A60D-093D6D7C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7C8E16-9B16-4A7F-B9B9-801D8A29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48D3A5-F37A-4916-A272-E8923186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487123-C13E-4E6F-A4E3-E19BB1B9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9DBFE8-E26B-4B43-89BE-16B9DD42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E5BFC8-324A-4886-B1D0-D78ABAB3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F4F185-9695-4422-835F-B500D55A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A5EC-2633-4E39-A10C-554CE644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55F17B-21C5-41B1-8359-B34C6187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DEA436-A6A7-4AB6-865A-F6EF6413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18478B-9AF3-4BB4-AA02-200ED085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D87EB8-37CD-4CA6-B4ED-806501F1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5AE52A-B43C-4B14-908A-2797D176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2179D2-8645-4E2D-8427-64E74F26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0AD675-8413-4036-A8BD-D9DDD01A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9C373E-ABC1-4447-B512-EF511CCC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4F40DD-4F89-4C2F-9E18-2F5808D1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6EDB-E687-4057-BD04-2736F495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77E3-48B8-4437-9788-8A30F1E1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DFC3-0945-4F10-AFC0-91994D6E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5732-F6E0-44EB-B6F1-138D54E9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E9E4-91E5-45C1-B371-47C47B5B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8D29-6194-4A0B-B1D5-8F587376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8B13-DC46-48E4-A3EC-9C6134C8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A7DE-489C-4975-8016-1CEB6719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36B97-92FC-46A1-BED4-7FFC597F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6F2AA-6540-462A-88EF-D042DA4B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679F4-5212-4AE8-9E87-D49FC35E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B6A8E-FF7B-4DDC-8603-BD835466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454CD-A3C6-440E-85FA-6BFDD3A2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6211D-92F0-4FE6-97C8-75F71BE9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9B30-A209-4002-B2A8-B5104E8D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3E4D6-2A2A-4A65-A524-88DEAE23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45397-32F2-41AC-968C-3FD1D0DD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506A5-FEA9-4A1E-9DE6-94197378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E263F-4B37-4F8A-B6F4-3609B305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349B6-0BBC-4023-A39F-BCBB908F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77A1B-8EA0-4EE7-8D6C-95605D8D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94F23-F950-4E37-A9E5-441B87D5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7B7A2-E6A2-41FE-BE8D-C7842BD5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04E64-4305-4720-96D3-70D16ECF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D2049-A60D-4D57-BF3F-26FA907E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FC02-268F-4B9E-BF6B-F6AE7A78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0F519-2F23-4FCB-933C-0D9C86E0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A026E-6CC6-4E46-AF8F-3E4B8D06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CBF92-544F-433C-BAAC-B287E12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399C0-94ED-400A-AF07-5AA9E438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17D1A-9302-479B-9748-2C961D40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245B1-37B7-4A86-8542-EA2E93A8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2F5B1-CB9F-4115-8B2D-5E8DD9A8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0AD71-E4E1-4342-A5D3-E4B6A4B9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0C7A7-BC38-4752-9AE3-188C3877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DCFE8-8647-4B6E-BFA5-E032D045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13F21-4CC3-41D4-9E8D-B31D456D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B711F-EECB-4863-B74A-EC7B335A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7154E-84B2-4502-8548-C45DF7D4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4EBB0-1860-40C2-9779-1B2CA0DC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78A62-54C5-445D-AD17-B24B0E14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9212D-45A8-4926-B865-0F3BE921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720C3-FE5E-43BB-A67A-1A567C33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C767B-4414-435D-8899-196D951B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4538A-5EF7-45E5-8F82-C677C7C3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6581B-4F56-4664-93A4-D77361A2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36BE1-10A7-4FA8-A1A9-C22AD712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C76CB-8F55-4CEA-B434-33F97566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31430-6DB7-4DBC-A3F2-BD2A2DC6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A00D9-2E20-429C-91EF-2A9E3352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649CB-23DA-4000-801D-72753E21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E03EC-3A0D-4C3C-8F74-DF3C7A37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3F91C-9DA6-43EC-9A79-6CFCEE44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42A35-7953-473C-9543-D1AE4245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802E8-DC12-48EF-8996-A8995DB9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C10D3-7528-4099-A54A-F9C7203E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2C6AE-F5F6-469B-883C-5BD39B49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12B2B-65A9-4CD9-806E-4508B4EA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B13C1-1044-41AD-8EE9-84BB0FF3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8EBE8-B594-4610-B97F-B829891F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E9134-6A06-467B-A1FC-7DF0D9BC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F1FCC-7A61-4D4A-BCAA-D45FBFE7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9BC1B-72FD-4E82-881B-875D46E7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007B1-9BD7-484F-BA57-12A7AEA8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EFA38-803D-41A9-9F0C-C2676EF6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AA1F6-3FD1-4800-9150-31E8CC36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159D6-C023-4109-AB7B-C2B4CCE8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EF889-A0C7-47D4-9223-D4A80260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BA520-2F0C-42ED-AD7D-27357814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30D26-13C0-4EAB-AFEA-95BD7443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683C9-601E-43F9-A904-A11AF6CD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4559-52A7-4A82-8E01-857AB5316B5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C9E7-B27B-4C74-BC04-EDFFF94342C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7CC1-B8A0-4FCF-BEDB-5F96D3CA352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EF13-E98C-456E-AE89-076CA56BCB1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F4C6-C11B-4167-94BA-E2087C91CCD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8F0F-CFE9-495F-B8F2-10D2905B2C9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C959-9194-4897-B1A4-76639C8709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6771-4C87-4D01-ADB8-1F890BF87B0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4E9C-2393-4BE3-800D-AAA2171A933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E433-7734-4946-866B-502CF9EFC1F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4C7C-AD19-4B8E-87F6-C873D150EDD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7E14-857A-465C-A9AD-183FBA985B7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837B-667A-46D9-AB9E-746C22476FD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A4DA-2734-44D9-B85F-4CED6B61753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A12E-2FB5-4608-A51D-DADB5552269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BF94-2DBB-49D0-8CFA-432B1F86A9E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CD84-6502-47D8-A064-2ED7BDB19F9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6EEB-F31C-4A8A-98E5-3E63F6440F8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7CC2-A962-44F8-A93C-CC477574B6A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0C12-1814-4DF1-8194-090D44C0DFD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D555-DFD7-4C1E-B05E-99BFECA1FF1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64D6-C463-4C1C-98AD-94AE21D43DF0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9C17-0EF1-4545-B2F0-ED0BC553F36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468360" y="2103480"/>
            <a:ext cx="842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求一个数比另一个数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少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百分之几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4"/>
          <p:cNvSpPr/>
          <p:nvPr/>
        </p:nvSpPr>
        <p:spPr>
          <a:xfrm>
            <a:off x="4751280" y="1666800"/>
            <a:ext cx="41022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1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欢乐农家游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百分数（二）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六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774720" y="1952640"/>
            <a:ext cx="75484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已知差量，求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少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百分之几的问题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已知工作时间，求工作效率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少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百分之几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）结合比的知识，求一个数比另一个数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少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百分之几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解决几何图形中有关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少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百分之几的问题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54000" y="1484280"/>
            <a:ext cx="72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六、填表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不尽的百分号前保留一位小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004" name=""/>
          <p:cNvGraphicFramePr/>
          <p:nvPr/>
        </p:nvGraphicFramePr>
        <p:xfrm>
          <a:off x="1760400" y="2960640"/>
          <a:ext cx="5743440" cy="2855880"/>
        </p:xfrm>
        <a:graphic>
          <a:graphicData uri="http://schemas.openxmlformats.org/drawingml/2006/table">
            <a:tbl>
              <a:tblPr/>
              <a:tblGrid>
                <a:gridCol w="3722760"/>
                <a:gridCol w="736560"/>
                <a:gridCol w="595440"/>
                <a:gridCol w="688680"/>
              </a:tblGrid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苹果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年产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万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年产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万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.3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年比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增加的产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万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年的产量比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年增长的百分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5" name="Rectangle 17"/>
          <p:cNvSpPr/>
          <p:nvPr/>
        </p:nvSpPr>
        <p:spPr>
          <a:xfrm>
            <a:off x="2628720" y="2324880"/>
            <a:ext cx="38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山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水果产量统计表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6" name="TextBox 4"/>
          <p:cNvSpPr/>
          <p:nvPr/>
        </p:nvSpPr>
        <p:spPr>
          <a:xfrm>
            <a:off x="6771960" y="3321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.45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7" name="TextBox 20"/>
          <p:cNvSpPr/>
          <p:nvPr/>
        </p:nvSpPr>
        <p:spPr>
          <a:xfrm>
            <a:off x="6202800" y="37209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4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8" name="TextBox 21"/>
          <p:cNvSpPr/>
          <p:nvPr/>
        </p:nvSpPr>
        <p:spPr>
          <a:xfrm>
            <a:off x="5507640" y="4361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16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9" name="TextBox 22"/>
          <p:cNvSpPr/>
          <p:nvPr/>
        </p:nvSpPr>
        <p:spPr>
          <a:xfrm>
            <a:off x="5506560" y="52214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%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0" name="TextBox 23"/>
          <p:cNvSpPr/>
          <p:nvPr/>
        </p:nvSpPr>
        <p:spPr>
          <a:xfrm>
            <a:off x="6190920" y="52293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%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1" name="TextBox 24"/>
          <p:cNvSpPr/>
          <p:nvPr/>
        </p:nvSpPr>
        <p:spPr>
          <a:xfrm>
            <a:off x="6718680" y="521820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1.1%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矩形 10"/>
          <p:cNvSpPr/>
          <p:nvPr/>
        </p:nvSpPr>
        <p:spPr>
          <a:xfrm>
            <a:off x="963720" y="1197000"/>
            <a:ext cx="721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七、生活中的数学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某款电视参加“春节大促销”活动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原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现价比原价优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优惠百分之几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现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现价比原价优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优惠百分之几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3" name="矩形 4"/>
          <p:cNvSpPr/>
          <p:nvPr/>
        </p:nvSpPr>
        <p:spPr>
          <a:xfrm>
            <a:off x="1317600" y="2744640"/>
            <a:ext cx="65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0÷3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优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4" name="矩形 4"/>
          <p:cNvSpPr/>
          <p:nvPr/>
        </p:nvSpPr>
        <p:spPr>
          <a:xfrm>
            <a:off x="1476360" y="4591080"/>
            <a:ext cx="65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0÷(3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0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优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矩形 10"/>
          <p:cNvSpPr/>
          <p:nvPr/>
        </p:nvSpPr>
        <p:spPr>
          <a:xfrm>
            <a:off x="954000" y="116064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八、一份稿件，原计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抄完，结果只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就抄完了，实际工作效率比计划提高了百分之几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16" name="组合 5"/>
          <p:cNvGrpSpPr/>
          <p:nvPr/>
        </p:nvGrpSpPr>
        <p:grpSpPr>
          <a:xfrm>
            <a:off x="1579680" y="2625840"/>
            <a:ext cx="6508800" cy="1557000"/>
            <a:chOff x="1579680" y="2625840"/>
            <a:chExt cx="6508800" cy="1557000"/>
          </a:xfrm>
        </p:grpSpPr>
        <p:sp>
          <p:nvSpPr>
            <p:cNvPr id="1017" name="矩形 4"/>
            <p:cNvSpPr/>
            <p:nvPr/>
          </p:nvSpPr>
          <p:spPr>
            <a:xfrm>
              <a:off x="1579680" y="2625840"/>
              <a:ext cx="6508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(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－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) ÷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25%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　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：实际工作效率比计划提高了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25%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18" name="对象 1" descr=""/>
            <p:cNvPicPr/>
            <p:nvPr/>
          </p:nvPicPr>
          <p:blipFill>
            <a:blip r:embed="rId1"/>
            <a:stretch/>
          </p:blipFill>
          <p:spPr>
            <a:xfrm>
              <a:off x="2411640" y="2709000"/>
              <a:ext cx="24732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9" name="对象 2" descr=""/>
            <p:cNvPicPr/>
            <p:nvPr/>
          </p:nvPicPr>
          <p:blipFill>
            <a:blip r:embed="rId2"/>
            <a:stretch/>
          </p:blipFill>
          <p:spPr>
            <a:xfrm>
              <a:off x="1799640" y="2709000"/>
              <a:ext cx="24732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对象 4" descr=""/>
            <p:cNvPicPr/>
            <p:nvPr/>
          </p:nvPicPr>
          <p:blipFill>
            <a:blip r:embed="rId3"/>
            <a:stretch/>
          </p:blipFill>
          <p:spPr>
            <a:xfrm>
              <a:off x="3240000" y="2709000"/>
              <a:ext cx="247320" cy="72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矩形 10"/>
          <p:cNvSpPr/>
          <p:nvPr/>
        </p:nvSpPr>
        <p:spPr>
          <a:xfrm>
            <a:off x="863640" y="765000"/>
            <a:ext cx="721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九、两根绳子的长度之比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∶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第一根绳子比第二根绳子短百分之几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第二根绳子比第一根绳子长百分之几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2" name="矩形 4"/>
          <p:cNvSpPr/>
          <p:nvPr/>
        </p:nvSpPr>
        <p:spPr>
          <a:xfrm>
            <a:off x="1317600" y="2440080"/>
            <a:ext cx="65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)÷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%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第一根绳子比第二根绳子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3" name="矩形 5"/>
          <p:cNvSpPr/>
          <p:nvPr/>
        </p:nvSpPr>
        <p:spPr>
          <a:xfrm>
            <a:off x="1317600" y="4041720"/>
            <a:ext cx="65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)÷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%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第二根绳子比第一根绳子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矩形 10"/>
          <p:cNvSpPr/>
          <p:nvPr/>
        </p:nvSpPr>
        <p:spPr>
          <a:xfrm>
            <a:off x="863640" y="765000"/>
            <a:ext cx="748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十、解决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甲正方形的边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乙正方形的边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甲正方形的周长比乙正方形的周长少百分之几？乙正方形的面积比甲正方形的面积多百分之几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5" name="矩形 4"/>
          <p:cNvSpPr/>
          <p:nvPr/>
        </p:nvSpPr>
        <p:spPr>
          <a:xfrm>
            <a:off x="1187280" y="3573360"/>
            <a:ext cx="73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12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8×4)÷(12×4)≈33.3%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12×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8×8)÷(8×8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25%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甲正方形的周长比乙正方形的周长约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3.3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乙正方形的面积比甲正方形的面积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25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矩形 10"/>
          <p:cNvSpPr/>
          <p:nvPr/>
        </p:nvSpPr>
        <p:spPr>
          <a:xfrm>
            <a:off x="863640" y="765000"/>
            <a:ext cx="721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个长方体木块的长、宽、高分别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如果把它锯成一个最大的正方体木块，那么正方体木块的体积要比长方体木块的体积少百分之几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7" name="矩形 4"/>
          <p:cNvSpPr/>
          <p:nvPr/>
        </p:nvSpPr>
        <p:spPr>
          <a:xfrm>
            <a:off x="1187280" y="3681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5×4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×3×3)÷(5×4×3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55%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正方体木块的体积要比长方体木块的体积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55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29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30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31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32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3" name="矩形 19"/>
          <p:cNvSpPr/>
          <p:nvPr/>
        </p:nvSpPr>
        <p:spPr>
          <a:xfrm>
            <a:off x="954000" y="1484280"/>
            <a:ext cx="721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十一、某种型号的空调，原价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第一次降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第二次又降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两次降价的幅度相同吗？如果不相同，各是多少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不尽的百分号前保留整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4" name="TextBox 1"/>
          <p:cNvSpPr/>
          <p:nvPr/>
        </p:nvSpPr>
        <p:spPr>
          <a:xfrm>
            <a:off x="2115000" y="4078440"/>
            <a:ext cx="580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760÷76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760÷(76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760)≈11%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两次降价的幅度不相同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第一次降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第二次大约降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1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8:27:17Z</dcterms:modified>
  <cp:revision>1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